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61E-1348-48DC-A7E7-B40248D0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13A-57BF-418C-A118-513D084C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D48-D46F-468E-BA68-98D6B2B3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BB3-122E-4FF2-BB1E-A62ECCF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17E-688A-4987-BD96-B674E5A5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C77-CD28-4C06-A81D-333B42CF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58B6-48A2-4C6A-9081-799AFF66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D45-0D76-4D5B-BA55-432E70E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34A-B05C-4E1A-A096-B2A72882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0FC-765A-4B0B-94D8-14C9C158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E56-0F8B-435D-BA81-5AB1501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C40-9A50-4497-B0D3-1AA0AD3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801D-D1C6-402A-A28A-D5DF98B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0C9-9612-4837-9E97-BAFAA80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8CAB-7372-4A03-9DD0-ACCE8A4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85C-81D0-409B-B7A4-05B5C7A0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FFC-6586-4E06-B5E5-86F1A3B4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ACB8-7356-4B3F-AE9F-32EC2659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9D00-17A7-4DEB-A14B-B242B79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935A-AA3A-4DE1-B761-C547106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2DCA-85B3-4A74-B347-73B8FCAE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7BDC-5C98-4E35-AB08-0E78179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4E5-A25A-4192-9783-0BF1EA3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8BFF-99D9-47DB-BDB3-739AB0A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EF48-7E44-46AB-AC39-6BFD045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EF6A-D5F5-4586-88EE-5DA5DF3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4C75-290D-424E-8A2B-A60F283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56AD-97B2-408A-8D2A-61F9F8A4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09FD-8B8C-4514-86C7-C8E5A53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70F1-878F-4E74-8ACD-E5FA5A0C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6D1A-B254-4B6D-9E8D-17182AF2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19C7-66B1-4A9F-BF05-EF7DA201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D2DA-4412-478E-BF73-4B3CA96F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16A-5028-41BF-857F-9DCAEA9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BFFF-2CAD-437C-ACA5-6083CCC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4B02-512D-486A-8067-EA67880D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A697-B526-4ED3-A409-E2F55DF8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064D-6F6C-432A-83B3-E8D2F1B2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1ECB-6477-4A13-A069-D226BF2B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1BB9-62FC-49D1-861B-E71305C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E9EC-B1CC-45A6-B5AD-FEED3A42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A7A4B-6796-4972-B3AC-D95C1FF8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9695-2E7F-4CCE-8569-A025DB6C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1004-1489-4D5A-92F1-14E2AB41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2E5-CCD2-4B38-BF90-3AA2A59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B954E-6DAA-4206-BBB8-2193638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774B-99A9-47FB-BEEE-9B42D0C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EC08-A172-4C5F-8343-9C84EFA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C7DA-A7D0-4D20-90FF-5E46194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6514-9B0B-4966-B99D-B3BCE5B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9FE6-65B2-4487-861A-D61097F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740B-2397-41FD-AA0E-3D29903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9CDA-8472-4E6E-9FBA-98C4855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C1FC-AC40-4F82-A1CD-4FFF1CC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4D3E-4546-4A4E-9163-1CE89916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FA7-0598-4EAA-AE1F-3A7A5C7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5BCF-2340-4BBC-A5B8-8445135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4C37-B595-4F57-9670-62A72FEB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E616-A669-407F-B3DF-AAE9056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8859-14BC-444E-BF29-5BB48A6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9454D-151B-4C3F-815A-F670D90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5C24-9759-405A-BC80-3F6AE399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583E-BDB2-4F1F-BD44-AC9F06F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7750-5A69-4CA2-A443-EE98F5D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33A1-C394-422D-9179-BD9BCCD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3AB3-6C2F-4841-8BC8-D93CE84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582-C3D5-4556-9B74-AE0BA9D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6C95-2BBB-4A7A-8F34-ADBD411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6DCF-721A-43DE-9355-53EE9BBE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D75E-5F60-4F9B-8816-07F9A937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C4CF-0AF9-40BF-B99E-81960FD4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B1EB-15AC-4C38-8033-999ED01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C868-A352-4E1D-A6C1-0E9FDC26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5F3BC-363F-4D90-A800-6D7359F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8C2E2-4B26-4E9D-9F6A-6E69C1C0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04A0-3893-41D5-9F54-AF783C46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E00CF-CBC1-4F93-BF5F-D47AD8CD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E10-40C3-4F90-BA4F-2740F34B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F80E-0DF3-4F58-B534-305DFB5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89E4-7BE6-41A8-93C6-25DF1D1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F56F-3E17-4D96-85FF-1DA52C8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256F-92A9-4BB0-8920-683D15DF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8A6D8-CC66-46CF-B3F9-26532083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0227-51D5-447A-8D0F-1DBC9BF9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6BAE2-7FD5-47CC-83E3-84EAD5F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0A92-AE07-427D-8A72-E82DE75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19AD1-3B23-4765-B10E-F318AFAB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9051-A582-421D-A902-B46B780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87A-8308-43CD-A8EF-DCCD2D9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C8F48-8AFB-4D3F-9ACF-80AF4E90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6D1AC-AA1C-4301-8C28-4B152FF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0949-E2FE-436C-95ED-CAF60B8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6429-E9A2-439C-99AE-79D5BD0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B626B-5654-4FE7-BAB7-A88C13B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AB5B5-DECA-4713-AB1B-7C8DE67F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E66B-1044-4B62-A91B-8BC74CA7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13F-8459-4A3C-9F2B-3EA61B10BE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B15-FE73-4DF2-BD50-EB130955C5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454-290B-40BD-8E74-3F2BCFCA88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55A-59E5-467F-AE64-24C18D6F2D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80DF-344E-40A7-82A4-DFF40AD93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DE08-0489-47D5-B1FF-B753790321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F628-FD12-4538-8F8C-49CCD59E5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D7B-4A5F-41FA-B8EE-FA5E180CA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23232"/>
              </a:solidFill>
              <a:latin typeface="Lucida Sans Unicode"/>
            </a:endParaRPr>
          </a:p>
        </p:txBody>
      </p:sp>
      <p:pic>
        <p:nvPicPr>
          <p:cNvPr id="372" name="Picture 2" descr="advisorybhs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advisory logo.jpg"/>
          <p:cNvPicPr/>
          <p:nvPr/>
        </p:nvPicPr>
        <p:blipFill>
          <a:blip r:embed="rId1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04920" y="19051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1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s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2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eer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3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fessi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05880" cy="3449520"/>
          </a:xfrm>
          <a:prstGeom prst="rect">
            <a:avLst/>
          </a:prstGeom>
          <a:ln w="0">
            <a:noFill/>
          </a:ln>
        </p:spPr>
      </p:pic>
      <p:pic>
        <p:nvPicPr>
          <p:cNvPr id="377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5 minut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1:40-11:55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69976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85680" y="1523880"/>
            <a:ext cx="8705880" cy="29084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ob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  <p:pic>
        <p:nvPicPr>
          <p:cNvPr id="385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ame your advisory group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r. Bruce Quall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is advisory program was his idea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16:13Z</dcterms:created>
  <dc:creator>Teacher</dc:creator>
  <dc:description/>
  <dc:language>en-US</dc:language>
  <cp:lastModifiedBy>Teacher</cp:lastModifiedBy>
  <dcterms:modified xsi:type="dcterms:W3CDTF">2010-08-13T02:54:42Z</dcterms:modified>
  <cp:revision>5</cp:revision>
  <dc:subject/>
  <dc:title>Slide 1</dc:title>
</cp:coreProperties>
</file>