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3DED-686F-4501-95BE-2FE7C0FE9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2EB6-E472-42DF-9CC7-567ADCB19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407B-C203-40A8-8BD6-716C4353D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B7D9-65A2-4B5B-AA8D-4B8A0DE76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8BF26-A79F-4DAE-827E-306D75A6A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8E5A3-8C98-4CFE-BA9F-0C5928DF3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90421-C3AD-4914-AD50-E5FAB6E4B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C903A-5529-44B6-A764-AE5BA677A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FE1A0-401B-4528-80DB-099C8A1BD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F6CFA-EF71-4D62-BEFB-4DF864217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5622A-1983-4F91-8AB1-ADA68F26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16B5-6CBE-485C-A7B4-6C5501B7B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801C6-800A-42C9-9C6D-F420AC56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94AA8-3C55-4F99-8F1F-8347599D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0A862-9A8A-4EE7-8AA3-08224DC9F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BFE41-39B9-48F0-BAA6-F13DC0C4C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48FC6-1002-48E9-956F-5215686FD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CB20A-29FC-4D0D-8192-91747E72B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46F8B-F8C3-442B-A037-302A1034B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59A60-E02A-491D-9C41-45FCC39B2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398FA-2A8B-47FA-A2DA-25F7CBB12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ECBBB-4093-4D33-A649-1EE58AFBC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4CF9-067E-41FB-AA32-B0443CB1E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CA8D7-59BA-44FC-BA5D-21487F86D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EBD33-3974-40BD-B9D0-D426276F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B47B1-BA6B-43A2-9141-D813AD37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8C73B-75D5-4424-85D3-2075EF2C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6D1F7-E615-4858-B1DD-AA32D17BA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B1663-D363-49BE-86A5-2A7940489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556A0-B963-4CF1-86C0-3AC408F7C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6E0A0-8460-4D48-B80B-595D2F352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7BF79-12F2-4364-BC75-5E41E0AE7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30A97-6419-49B0-9233-25468D9B1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4917-5388-4EAC-A922-C953482EC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7DEFE-47CD-48D7-BEC7-47A969DC6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FF024-6A58-4E6A-B6BB-CDE60CE80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0ED40-A8D1-4603-98E7-0825C8B66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116EC-8343-4BFF-810B-23F36AB8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1C81D-3C9E-4709-ABB1-A74DBBED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836D9-DFA2-4907-97B9-064D9853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6652D-D3DC-48A6-877D-6F9B719AE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5CDC3-5057-4FEB-847F-4B2A17CC1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4F91C-8EB0-4903-925C-42BB068BD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7E282-38AE-4505-95D6-26675D747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BF1A-57AF-4AC0-A958-2569AF0B4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CB735-1E6C-4317-8A7D-7A3D2507C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6962B-E647-437B-A6A7-2813922FE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3D1FB-7BA0-4FDB-A43D-20A9C7140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D8378-C2A2-4344-A3F4-8D59A04C3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02354-66CF-4A8B-BF43-1B4B33C71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51712-2860-4150-8434-C3C24CB4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734DD-B707-4694-8B62-0C91E52D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DB02B-FC80-4E48-9CB0-87EFE0AA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1EEE6-9A2F-4108-A84F-ED31F19DC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553C5-399A-487F-B152-8C9550F16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6EB7-3CDB-4182-A18D-A23E6E376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B7E65-4E07-460B-AA66-E2A764923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3EB5C-B3B4-457D-80D9-AA8FCDA2D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D3EC9-92C0-4E91-A3C0-809AB9C54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32ED2-6F34-4D29-B507-F1680D91C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A9152-7FA7-487D-AF53-C6F26AC5C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32DFF0-0D42-4C67-99B4-31A10C38F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01AB3-7E34-4487-8DC8-BAABF2E43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5D642-C8AC-4C62-A574-5922E724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D2F36-D9BE-4B02-9D73-4D35E933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A2A47-02F0-4010-829F-472CBAC4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E836-7110-4E3B-99EF-767F0421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9A2BF-74F9-4F81-BE2C-73195EA95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CB9A2-6572-476A-BE80-51EC19F4F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D6EAE-FF3D-4E60-B45C-8441960ED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4B5FA-76D5-4AB4-A493-82F6F0271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DC1C0-29EC-425B-B9C3-D42D37790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822C53-B503-418C-B24E-7C0B52FF4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FF582B-3696-49C8-836C-4EDD54C1D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BDF957-2F1E-457F-8B99-14B2A3F93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3F9FD-C7BB-4AF0-A850-77C440AC3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CA495C-789F-441E-A5D7-01070C13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5869-99B9-4E1E-8FF6-F3CBBF94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ED852-DF09-4EAD-8367-E818D206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D2A71F-C505-4005-B823-E655677B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000B7-DE3C-4A86-9DE5-94F59A678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04B7C1-14C8-442F-BE3D-C50954EE2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E0E1FE-41DE-4A72-AA2A-B0CAAC55C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D14EA7-CB89-4236-B243-8A95BD804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180166-DD86-4A57-9D57-3D2931441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C269E-EBC7-4F87-BD03-574793CD9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900BFD-9CE1-4455-AB5C-80D24FD5A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C947AA-B8E0-457D-ABD8-E54DC5B3E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8916-79CF-4BD3-A5E8-17DD7116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A753E1-0FB7-4656-B504-BE5CF7725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0E5EAE-CF5D-4047-A44C-826F0F19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FAA380-8385-4B3A-8133-9A77D949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224C0B-04D2-4C75-A1DF-F904C20F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C21090-F097-4A34-A0F1-8624C942D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2DB24C-61DE-4EFD-BF0D-6BB999292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75AA99-52D8-42E7-B9D1-411CD63DD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cb79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2323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2692B-8B1E-4652-9081-3C5C4BD1560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c94d00"/>
              </a:gs>
              <a:gs pos="50000">
                <a:srgbClr val="ff8934"/>
              </a:gs>
              <a:gs pos="100000">
                <a:srgbClr val="c94d0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fcb79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2323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27E82-1BDC-41FB-9F90-BFA6C6491BE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cb79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76400"/>
              </a:gs>
              <a:gs pos="100000">
                <a:srgbClr val="ffa373"/>
              </a:gs>
            </a:gsLst>
            <a:lin ang="16200000"/>
          </a:gradFill>
          <a:ln cap="rnd" w="3240">
            <a:solidFill>
              <a:srgbClr val="b05c0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76400"/>
              </a:gs>
              <a:gs pos="100000">
                <a:srgbClr val="ffa373"/>
              </a:gs>
            </a:gsLst>
            <a:lin ang="16200000"/>
          </a:gradFill>
          <a:ln cap="rnd" w="3240">
            <a:solidFill>
              <a:srgbClr val="b05c0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3ded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3ded1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8AB7F-28DE-463A-842A-FE8794D54F6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cb79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3ded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3ded1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D1F67-338C-44EB-BBD5-FE7678245B8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2323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25CDE-9AAE-49F8-8146-8020D2CFA29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cb79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3ded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3ded1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12B03-D49D-43E3-B0E8-C49B2AA49BB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2323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1309B-DC85-467F-B649-5866511ACB0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cb79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76400"/>
              </a:gs>
              <a:gs pos="100000">
                <a:srgbClr val="ffa373"/>
              </a:gs>
            </a:gsLst>
            <a:lin ang="16200000"/>
          </a:gradFill>
          <a:ln cap="rnd" w="3240">
            <a:solidFill>
              <a:srgbClr val="b05c0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76400"/>
              </a:gs>
              <a:gs pos="100000">
                <a:srgbClr val="ffa373"/>
              </a:gs>
            </a:gsLst>
            <a:lin ang="16200000"/>
          </a:gradFill>
          <a:ln cap="rnd" w="3240">
            <a:solidFill>
              <a:srgbClr val="b05c0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3ded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3ded1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DCA8D-FDF6-4182-BAC3-D0848203DB9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8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23232"/>
              </a:solidFill>
              <a:latin typeface="Lucida Sans Unicode"/>
            </a:endParaRPr>
          </a:p>
        </p:txBody>
      </p:sp>
      <p:pic>
        <p:nvPicPr>
          <p:cNvPr id="372" name="Picture 2" descr="advisorybhs"/>
          <p:cNvPicPr/>
          <p:nvPr/>
        </p:nvPicPr>
        <p:blipFill>
          <a:blip r:embed="rId1"/>
          <a:stretch/>
        </p:blipFill>
        <p:spPr>
          <a:xfrm>
            <a:off x="0" y="1278000"/>
            <a:ext cx="9144000" cy="32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Content Placeholder 3" descr="advisory logo.jpg"/>
          <p:cNvPicPr/>
          <p:nvPr/>
        </p:nvPicPr>
        <p:blipFill>
          <a:blip r:embed="rId1"/>
          <a:stretch/>
        </p:blipFill>
        <p:spPr>
          <a:xfrm>
            <a:off x="6172200" y="4419720"/>
            <a:ext cx="3286080" cy="2438280"/>
          </a:xfrm>
          <a:prstGeom prst="rect">
            <a:avLst/>
          </a:prstGeom>
          <a:ln w="0">
            <a:noFill/>
          </a:ln>
        </p:spPr>
      </p:pic>
      <p:pic>
        <p:nvPicPr>
          <p:cNvPr id="374" name="Title 1" descr=""/>
          <p:cNvPicPr/>
          <p:nvPr/>
        </p:nvPicPr>
        <p:blipFill>
          <a:blip r:embed="rId2"/>
          <a:stretch/>
        </p:blipFill>
        <p:spPr>
          <a:xfrm>
            <a:off x="42840" y="139680"/>
            <a:ext cx="8650440" cy="1287360"/>
          </a:xfrm>
          <a:prstGeom prst="rect">
            <a:avLst/>
          </a:prstGeom>
          <a:ln w="0">
            <a:noFill/>
          </a:ln>
        </p:spPr>
      </p:pic>
      <p:sp>
        <p:nvSpPr>
          <p:cNvPr id="375" name="TextBox 4"/>
          <p:cNvSpPr/>
          <p:nvPr/>
        </p:nvSpPr>
        <p:spPr>
          <a:xfrm>
            <a:off x="304920" y="1905120"/>
            <a:ext cx="883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Year 1:  A </a:t>
            </a:r>
            <a:r>
              <a:rPr b="0" lang="en-US" sz="5400" spc="-1" strike="noStrike">
                <a:solidFill>
                  <a:srgbClr val="f07f09"/>
                </a:solidFill>
                <a:latin typeface="Calibri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rsonal </a:t>
            </a:r>
            <a:r>
              <a:rPr b="0" lang="en-US" sz="5400" spc="-1" strike="noStrike">
                <a:solidFill>
                  <a:srgbClr val="f07f09"/>
                </a:solidFill>
                <a:latin typeface="Calibri"/>
              </a:rPr>
              <a:t>L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arning </a:t>
            </a:r>
            <a:r>
              <a:rPr b="0" lang="en-US" sz="5400" spc="-1" strike="noStrike">
                <a:solidFill>
                  <a:srgbClr val="f07f09"/>
                </a:solidFill>
                <a:latin typeface="Calibri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t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Year 2:  A </a:t>
            </a:r>
            <a:r>
              <a:rPr b="0" lang="en-US" sz="5400" spc="-1" strike="noStrike">
                <a:solidFill>
                  <a:srgbClr val="f07f09"/>
                </a:solidFill>
                <a:latin typeface="Calibri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oneer </a:t>
            </a:r>
            <a:r>
              <a:rPr b="0" lang="en-US" sz="5400" spc="-1" strike="noStrike">
                <a:solidFill>
                  <a:srgbClr val="f07f09"/>
                </a:solidFill>
                <a:latin typeface="Calibri"/>
              </a:rPr>
              <a:t>L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arning </a:t>
            </a:r>
            <a:r>
              <a:rPr b="0" lang="en-US" sz="5400" spc="-1" strike="noStrike">
                <a:solidFill>
                  <a:srgbClr val="f07f09"/>
                </a:solidFill>
                <a:latin typeface="Calibri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t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Year 3:  A </a:t>
            </a:r>
            <a:r>
              <a:rPr b="0" lang="en-US" sz="5400" spc="-1" strike="noStrike">
                <a:solidFill>
                  <a:srgbClr val="f07f09"/>
                </a:solidFill>
                <a:latin typeface="Calibri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ofessional </a:t>
            </a:r>
            <a:r>
              <a:rPr b="0" lang="en-US" sz="5400" spc="-1" strike="noStrike">
                <a:solidFill>
                  <a:srgbClr val="f07f09"/>
                </a:solidFill>
                <a:latin typeface="Calibri"/>
              </a:rPr>
              <a:t>L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arning </a:t>
            </a:r>
            <a:r>
              <a:rPr b="0" lang="en-US" sz="5400" spc="-1" strike="noStrike">
                <a:solidFill>
                  <a:srgbClr val="f07f09"/>
                </a:solidFill>
                <a:latin typeface="Calibri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t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Title 1" descr=""/>
          <p:cNvPicPr/>
          <p:nvPr/>
        </p:nvPicPr>
        <p:blipFill>
          <a:blip r:embed="rId1"/>
          <a:stretch/>
        </p:blipFill>
        <p:spPr>
          <a:xfrm>
            <a:off x="66600" y="324000"/>
            <a:ext cx="8705880" cy="3449520"/>
          </a:xfrm>
          <a:prstGeom prst="rect">
            <a:avLst/>
          </a:prstGeom>
          <a:ln w="0">
            <a:noFill/>
          </a:ln>
        </p:spPr>
      </p:pic>
      <p:pic>
        <p:nvPicPr>
          <p:cNvPr id="377" name="Content Placeholder 3" descr="advisory logo.jpg"/>
          <p:cNvPicPr/>
          <p:nvPr/>
        </p:nvPicPr>
        <p:blipFill>
          <a:blip r:embed="rId2"/>
          <a:stretch/>
        </p:blipFill>
        <p:spPr>
          <a:xfrm>
            <a:off x="6172200" y="4419720"/>
            <a:ext cx="3286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Every day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15 minutes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11:40-11:55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1" descr=""/>
          <p:cNvPicPr/>
          <p:nvPr/>
        </p:nvPicPr>
        <p:blipFill>
          <a:blip r:embed="rId1"/>
          <a:stretch/>
        </p:blipFill>
        <p:spPr>
          <a:xfrm>
            <a:off x="-6480" y="66600"/>
            <a:ext cx="8699760" cy="1360440"/>
          </a:xfrm>
          <a:prstGeom prst="rect">
            <a:avLst/>
          </a:prstGeom>
          <a:ln w="0">
            <a:noFill/>
          </a:ln>
        </p:spPr>
      </p:pic>
      <p:pic>
        <p:nvPicPr>
          <p:cNvPr id="380" name="Content Placeholder 3" descr="advisory logo.jpg"/>
          <p:cNvPicPr/>
          <p:nvPr/>
        </p:nvPicPr>
        <p:blipFill>
          <a:blip r:embed="rId2"/>
          <a:stretch/>
        </p:blipFill>
        <p:spPr>
          <a:xfrm>
            <a:off x="6172200" y="4419720"/>
            <a:ext cx="3286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-85680" y="1523880"/>
            <a:ext cx="8705880" cy="2908440"/>
          </a:xfrm>
          <a:prstGeom prst="rect">
            <a:avLst/>
          </a:prstGeom>
          <a:ln w="0">
            <a:noFill/>
          </a:ln>
        </p:spPr>
      </p:pic>
      <p:pic>
        <p:nvPicPr>
          <p:cNvPr id="382" name="Content Placeholder 3" descr="advisory logo.jpg"/>
          <p:cNvPicPr/>
          <p:nvPr/>
        </p:nvPicPr>
        <p:blipFill>
          <a:blip r:embed="rId2"/>
          <a:stretch/>
        </p:blipFill>
        <p:spPr>
          <a:xfrm>
            <a:off x="6172200" y="4419720"/>
            <a:ext cx="3286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dviso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dvise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llobor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le 1" descr=""/>
          <p:cNvPicPr/>
          <p:nvPr/>
        </p:nvPicPr>
        <p:blipFill>
          <a:blip r:embed="rId1"/>
          <a:stretch/>
        </p:blipFill>
        <p:spPr>
          <a:xfrm>
            <a:off x="92160" y="201600"/>
            <a:ext cx="8601120" cy="1225440"/>
          </a:xfrm>
          <a:prstGeom prst="rect">
            <a:avLst/>
          </a:prstGeom>
          <a:ln w="0">
            <a:noFill/>
          </a:ln>
        </p:spPr>
      </p:pic>
      <p:pic>
        <p:nvPicPr>
          <p:cNvPr id="385" name="Content Placeholder 3" descr="advisory logo.jpg"/>
          <p:cNvPicPr/>
          <p:nvPr/>
        </p:nvPicPr>
        <p:blipFill>
          <a:blip r:embed="rId2"/>
          <a:stretch/>
        </p:blipFill>
        <p:spPr>
          <a:xfrm>
            <a:off x="6172200" y="4419720"/>
            <a:ext cx="3286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Next Friday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Name your advisory group!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le 1" descr=""/>
          <p:cNvPicPr/>
          <p:nvPr/>
        </p:nvPicPr>
        <p:blipFill>
          <a:blip r:embed="rId1"/>
          <a:stretch/>
        </p:blipFill>
        <p:spPr>
          <a:xfrm>
            <a:off x="139680" y="268200"/>
            <a:ext cx="8553600" cy="1158840"/>
          </a:xfrm>
          <a:prstGeom prst="rect">
            <a:avLst/>
          </a:prstGeom>
          <a:ln w="0">
            <a:noFill/>
          </a:ln>
        </p:spPr>
      </p:pic>
      <p:pic>
        <p:nvPicPr>
          <p:cNvPr id="388" name="Content Placeholder 3" descr="advisory logo.jpg"/>
          <p:cNvPicPr/>
          <p:nvPr/>
        </p:nvPicPr>
        <p:blipFill>
          <a:blip r:embed="rId2"/>
          <a:stretch/>
        </p:blipFill>
        <p:spPr>
          <a:xfrm>
            <a:off x="6172200" y="4419720"/>
            <a:ext cx="3286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Mr. Bruce Qualls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This advisory program was his idea!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le 1" descr=""/>
          <p:cNvPicPr/>
          <p:nvPr/>
        </p:nvPicPr>
        <p:blipFill>
          <a:blip r:embed="rId1"/>
          <a:stretch/>
        </p:blipFill>
        <p:spPr>
          <a:xfrm>
            <a:off x="139680" y="268200"/>
            <a:ext cx="8553600" cy="1158840"/>
          </a:xfrm>
          <a:prstGeom prst="rect">
            <a:avLst/>
          </a:prstGeom>
          <a:ln w="0">
            <a:noFill/>
          </a:ln>
        </p:spPr>
      </p:pic>
      <p:pic>
        <p:nvPicPr>
          <p:cNvPr id="391" name="Content Placeholder 3" descr="advisory logo.jpg"/>
          <p:cNvPicPr/>
          <p:nvPr/>
        </p:nvPicPr>
        <p:blipFill>
          <a:blip r:embed="rId2"/>
          <a:stretch/>
        </p:blipFill>
        <p:spPr>
          <a:xfrm>
            <a:off x="6172200" y="4419720"/>
            <a:ext cx="3286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5T14:16:13Z</dcterms:created>
  <dc:creator>Teacher</dc:creator>
  <dc:description/>
  <dc:language>en-US</dc:language>
  <cp:lastModifiedBy>Teacher</cp:lastModifiedBy>
  <dcterms:modified xsi:type="dcterms:W3CDTF">2010-08-13T02:54:42Z</dcterms:modified>
  <cp:revision>5</cp:revision>
  <dc:subject/>
  <dc:title>Slide 1</dc:title>
</cp:coreProperties>
</file>