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6EF-B414-45DE-A85D-600C61C1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414-67C0-4912-8E25-3AC6E11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C62-0CB5-4A68-8184-BB2AFF3A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171-CFC0-49D8-B761-93CD9572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4E9C-7198-4D4B-9688-F254FE33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9BA-7423-4BC6-A6B7-3D52AE5A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C0D-250D-443E-AF9B-C06A74ED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026-56B1-40EC-B694-C59795A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257C-B1A9-4358-80F8-D815563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1EB0-0811-4FFB-9889-32DC14B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8DA-CF9F-473A-A50B-4ED7E38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52A-91B6-4711-B3E2-AD032DF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FADA-FAA0-4114-8376-616F506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D711-D079-4583-83F7-AE5B4A6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04D2-296D-4A98-9BAA-1B881933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EFE-8DC3-4C57-83EC-49BFE910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4D6-D7A0-406F-B270-929F941B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DB4B-48C4-4143-8FF4-B2E2B621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4F28-203B-4C0F-9E7F-E103F921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E90F-AD0B-49F5-9DCD-6422D834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E1E0-3280-4B02-8BCC-8019BA23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7796-24FA-4F40-965A-4A233671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F88-269F-4B94-A60B-6EEEA81F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3D4C-024C-40E6-A63D-FE96B5EA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2578-E62B-48BD-B6F4-278DCF2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0025-59F4-40AC-92EB-99C9033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8196-3654-4D79-8767-EDAB442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8AAB-F865-4C9D-A9F3-9B6A3E1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00E3-5B9B-480F-8E9C-2D487851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D21E-83AD-45F9-8B1D-AA6375D7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88D9-350B-4C75-8195-96CE9877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93D5-4BDD-4F38-9CC8-53370DA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EDA4-A705-4234-A642-C6F70A7A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101-F0EA-4B79-805B-13B774D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BBCA-26E9-4F4B-B3B1-6242AFA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89C2-A64C-4B54-8E2C-496822A7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CC01-B939-4C27-B280-81A2B0E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ED1C7-88C4-4393-9B88-23EFB23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175F-533E-42EC-B6E2-0D1BC8A2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E1B2-8DD8-48CB-97D5-209D96E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6614-8345-4ECD-AF12-EABC5B0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4014-361E-4694-99FD-199180BD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1862-60B1-4B0A-9F04-CC8F8169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FA76-7988-4105-84FB-2A0809D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ED5-87F2-450C-B494-FF6EE710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38F8-47F5-4F2F-9FC6-EC8D035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92DFD-316C-46E4-9CA4-C7EEA3F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6770-539B-492E-97A9-AD4BA17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B28E-8325-418B-BFB0-36E4348F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5C64-1E84-4532-A657-A65DF37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5C35-47DB-4C1F-B157-E93C501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423E-E09A-4A80-856D-67CD383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7314-E5EE-4E1E-AA0F-87F7935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CDD3-AC26-4309-B1D1-165B9C7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201F8-97BC-4D7A-A4CB-8536CB12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A11-DAB4-4091-85F9-7F5CA024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A3B0-7A80-49F3-873C-D617E0D9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E289-BCD8-4B54-A931-CC55381E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56D6-3087-443A-8FE5-883FF343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50DC-A25F-4A7E-8039-8CA2FD9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96D7-E9FF-4C03-A1B9-F67E7D32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8E9B8-9D56-4019-AD9A-49998DF7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7948A-0216-4510-A36B-CBC7F36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B074E-CAD5-4E2F-920F-EDF5F0F0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AD50-193F-4F05-A61A-F5F72CE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AB34-809B-4356-A6D4-98387CA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8D6-5F22-43E5-AF13-BF6C9D1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F5C87-4AAF-4FE5-86DA-6416EAF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BC2C-3D5A-47A7-96FA-0D5559E3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9757-91F8-4569-938F-750C3A66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92A27-D26A-4659-BA84-AD3AB2F8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8850-763D-4CA7-801D-38CCA64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E01FA-BB57-46B3-A59A-85F631E6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747F9-F47A-4545-9B2C-DE09239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F13C-8751-4D8C-8900-6717EEC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16C8-4FC2-4010-B567-FE62BF0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7BFF-3581-4085-8D02-B4798C8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1B0-FF55-46CB-B7F1-B04076D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EDFA9-70BE-4909-9E34-E675073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1F33-490F-4243-8A03-92FBC8E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21D3B-D99D-4152-A03D-6896745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F7DD-D241-4663-8D37-FA0B85C1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D91AF-F0B2-411D-8CCD-39620EB8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C110-BFD2-4EE2-B183-783F3F91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0EE3-E5F8-47B5-93AE-6E37982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698D-6AE7-45AC-9FF4-CA4F7CF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0C0F7-0409-4A0F-87B5-DF13A790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4EDB-8EF3-468E-9973-7FD013EE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06A-66AD-4F2F-A001-2A5919B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68F2B-45FA-4E5A-9B44-47CB066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4F77A-33EA-429F-A4E7-C773952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44D2-F6D0-4490-A179-BC43790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DE2EC-B7F3-488C-B167-0FEEA7E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3068-7914-4127-85D5-A8159744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6991-275B-4138-9EF4-39E9A512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0D9D-CC39-458C-B019-9246D063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062-25ED-4193-901F-D41DE839C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47E-D3AE-470C-BCE3-5374D5415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909A-16E2-4CF5-B4B5-48C760890B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857-C50A-4D8B-A76A-549D88E33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B011-8005-4D49-8C92-172D73E9B7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4E6A-B042-4CB3-870C-52D580927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BFD-CD00-469E-B0B6-DDF3F6132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994C-3ACE-49A6-B442-6CDE876322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23232"/>
              </a:solidFill>
              <a:latin typeface="Lucida Sans Unicode"/>
            </a:endParaRPr>
          </a:p>
        </p:txBody>
      </p:sp>
      <p:pic>
        <p:nvPicPr>
          <p:cNvPr id="372" name="Picture 2" descr="advisorybhs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advisory logo.jpg"/>
          <p:cNvPicPr/>
          <p:nvPr/>
        </p:nvPicPr>
        <p:blipFill>
          <a:blip r:embed="rId1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304920" y="19051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1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s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2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oneer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3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fessi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6600" y="324000"/>
            <a:ext cx="8705880" cy="3449520"/>
          </a:xfrm>
          <a:prstGeom prst="rect">
            <a:avLst/>
          </a:prstGeom>
          <a:ln w="0">
            <a:noFill/>
          </a:ln>
        </p:spPr>
      </p:pic>
      <p:pic>
        <p:nvPicPr>
          <p:cNvPr id="377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very da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5 minut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1:40-11:55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699760" cy="1360440"/>
          </a:xfrm>
          <a:prstGeom prst="rect">
            <a:avLst/>
          </a:prstGeom>
          <a:ln w="0">
            <a:noFill/>
          </a:ln>
        </p:spPr>
      </p:pic>
      <p:pic>
        <p:nvPicPr>
          <p:cNvPr id="380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85680" y="1523880"/>
            <a:ext cx="8705880" cy="29084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obo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  <p:pic>
        <p:nvPicPr>
          <p:cNvPr id="385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ame your advisory group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r. Bruce Quall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is advisory program was his idea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16:13Z</dcterms:created>
  <dc:creator>Teacher</dc:creator>
  <dc:description/>
  <dc:language>en-US</dc:language>
  <cp:lastModifiedBy>Teacher</cp:lastModifiedBy>
  <dcterms:modified xsi:type="dcterms:W3CDTF">2010-08-13T02:54:42Z</dcterms:modified>
  <cp:revision>5</cp:revision>
  <dc:subject/>
  <dc:title>Slide 1</dc:title>
</cp:coreProperties>
</file>