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61A-196E-43BC-8319-ABDE0CCF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25DE-A548-4FFC-933B-B465A27E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259E-E228-4C4B-BA50-1DF94A85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0BD-AF9A-4B48-807E-F7176197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114-275A-4DB7-ABB5-32ECA9B0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A9EBE-1532-414C-A6B9-DE10737B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356F-B626-41A7-B2BA-0451AEFD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1DCD-594D-4844-813A-43655225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4C0-2249-4274-B24B-D5FA6E26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5094-6BF9-4778-9122-52A6B4D1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C72-5CE2-459F-B0B1-30CCEBC5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9EA-632B-4B29-A1BE-14AA422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3596-C830-49B7-935D-67609F3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C9AD-6141-4628-97F1-3E1250C2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0541-810B-409C-A1D0-1917DF64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4EF-D53C-489B-B4C9-BD48E814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AE4A-9955-437C-92EA-BF8A1B01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9A1B-3356-4847-A5BD-3E1F115A3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591E-D249-4938-A5CA-6CB427B0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37A7-E4AA-40FE-88BF-068B8DE4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FA919-DA93-40D3-A1AE-45CC385D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AA3A6-86C2-4C79-B7F1-A6D28EEA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8A2-4AC6-4029-92ED-DBBA026F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62B2-43F0-414C-9494-5C95269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662D-509F-4C64-856F-141ADAE9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AA2E6-33C0-4885-B7A7-587703C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22D9A-6BAA-4EF5-9AAD-69C869B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955B5-582D-4DE5-B146-22403C1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948E-43D2-48B1-AACC-B5B45974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1D4D4-F59E-47FE-B6FE-626136F1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83A41-CA81-421E-A469-C77E9DBD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FDF53-E875-44F2-9FDD-444ED548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D738-E3D9-47BC-876F-FD7758F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962C-D5E1-4B6E-A6B5-59BD4C87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227D-2A8A-4EE0-8CF9-125288E5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35A09-FCB4-4B57-A18F-A5D3C158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148D4-225C-4DAF-9840-2BF866AF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0B946-7333-4788-B71C-ABB6966B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8992E-D2EF-4353-B9B2-050D9C9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CDDDF-A288-4072-99CC-8A407E4A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41D7C-F1CD-4C5F-B7E3-0C4155C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CB22B-F077-43AF-9726-9E81A530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7014A-3EF2-4694-8D3D-EABDCFCF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85C73-74F7-4CF3-A440-81CF2AAD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D61-D289-4401-BE77-636C52FE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698D4-93A5-4F08-93EB-A2AF44CA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F819C-6B68-4E50-B098-B32ADD30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5A660-72A0-4DB4-883D-832B805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E5BE1-572E-437E-9032-85C3A978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2742-0E1A-4CD3-B8C8-15814409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C5D1-F9D7-448C-82BF-5EB27C8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0B36B-D3E2-4A0C-82D7-91746EC4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9F8A-66D4-4AAE-A31B-98933B8C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1D011-492B-41F5-8F1F-73264933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108B3-13C3-48DE-AE51-7BD8DDC5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F24A-4EC1-4F4F-BE62-7D816E59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F732-D4D8-4D47-A11B-FDCD6E2F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F4D8-BCC0-4ADE-87A1-C118C23A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B823E-AB9C-4CD1-B9E5-868AA2E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0D229-AEC2-4EB8-A8D6-BCFF63D7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8FC0F-30C2-4195-AB37-A5FBD166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FB29-B003-40CD-9450-927B314E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890A1-F235-4547-8205-FB207584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7B852-B643-455F-87D0-96B1BEF4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71EA1-F6AE-483B-A1D7-B71DA3A6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E65B-13F8-4EAD-B971-790D5D9B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899-23AD-4915-B4D8-B1EA171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EB0C-D14D-4E09-9710-465E138C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6DBC-5C42-4A8A-97FD-A3424CFB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DF555-9A5A-46A6-94C7-8F27587D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85B7C-5A75-4497-8197-8F1DFEA4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361AC-B3BB-46FE-8821-C78EC75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ACDA3-C7A2-48AC-BD42-D78B2490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697F3-8141-4EF1-83DE-796DC71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549E4-E224-4BF2-AE67-1C038CE1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BABB0-2E62-499B-92C9-068CAE1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D100-ABF4-4564-BDF4-69259B9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D55-5220-41C0-9DEE-DDFC2159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543ED-82F5-4E0A-915D-67D6A374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B6B52-008F-46AE-9B95-2FC2F94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63442-436C-4039-A19B-BFEF349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9B566-9863-42E8-BE15-BB08EEB2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E4B9-98FB-4BC1-B4CE-5E8CD555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90F22-39CF-4796-B145-5B4CD29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28C04-1DD9-465D-887F-92A4DD09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899C-1F1A-4A58-853E-BC2DB20B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60E12-4C1D-4F02-9EDA-A40FD6F2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26403-AFBF-4F07-BC0A-B29BD7A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C03-B128-4352-A0F7-5DD7CA58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30A2A-FB83-448E-8A0E-572844ED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19D5-596B-4792-80EF-518DE6CE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A7FEE-F37F-4F4E-8E33-E054F12E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79ABB-3281-4490-B01C-D57015B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F56C3-8566-4686-A718-25D858E7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C063-6EE9-4026-88B3-BFC85257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B4F2-A8E4-4684-BDA6-10A48824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6D7B-EB91-430C-82AE-527D4A70B3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94d00"/>
              </a:gs>
              <a:gs pos="50000">
                <a:srgbClr val="ff8934"/>
              </a:gs>
              <a:gs pos="100000">
                <a:srgbClr val="c94d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cb79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5610-2203-4DE4-B077-E431219C1F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1C5F-F154-47BE-8000-259F58AB64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6A94-46FF-432C-BF82-A4E2011E1D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D618-3876-455C-8DA7-E77D160263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E86B-C098-4D43-A668-B5BE85FEC1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CEE1-E5E0-48C5-AE6B-868FB18208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C2B9-D0CF-4573-9E50-FCDD448BAB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23232"/>
              </a:solidFill>
              <a:latin typeface="Lucida Sans Unicode"/>
            </a:endParaRPr>
          </a:p>
        </p:txBody>
      </p:sp>
      <p:pic>
        <p:nvPicPr>
          <p:cNvPr id="372" name="Picture 2" descr="advisorybhs"/>
          <p:cNvPicPr/>
          <p:nvPr/>
        </p:nvPicPr>
        <p:blipFill>
          <a:blip r:embed="rId1"/>
          <a:stretch/>
        </p:blipFill>
        <p:spPr>
          <a:xfrm>
            <a:off x="0" y="1278000"/>
            <a:ext cx="9144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advisory logo.jpg"/>
          <p:cNvPicPr/>
          <p:nvPr/>
        </p:nvPicPr>
        <p:blipFill>
          <a:blip r:embed="rId1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  <p:pic>
        <p:nvPicPr>
          <p:cNvPr id="374" name="Title 1" descr=""/>
          <p:cNvPicPr/>
          <p:nvPr/>
        </p:nvPicPr>
        <p:blipFill>
          <a:blip r:embed="rId2"/>
          <a:stretch/>
        </p:blipFill>
        <p:spPr>
          <a:xfrm>
            <a:off x="42840" y="139680"/>
            <a:ext cx="8650440" cy="128736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304920" y="19051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1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s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2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oneer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ear 3:  A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fessional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arning </a:t>
            </a:r>
            <a:r>
              <a:rPr b="0" lang="en-US" sz="5400" spc="-1" strike="noStrike">
                <a:solidFill>
                  <a:srgbClr val="f07f09"/>
                </a:solidFill>
                <a:latin typeface="Calibri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6600" y="324000"/>
            <a:ext cx="8705880" cy="3449520"/>
          </a:xfrm>
          <a:prstGeom prst="rect">
            <a:avLst/>
          </a:prstGeom>
          <a:ln w="0">
            <a:noFill/>
          </a:ln>
        </p:spPr>
      </p:pic>
      <p:pic>
        <p:nvPicPr>
          <p:cNvPr id="377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very da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5 minut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11:40-11:55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699760" cy="1360440"/>
          </a:xfrm>
          <a:prstGeom prst="rect">
            <a:avLst/>
          </a:prstGeom>
          <a:ln w="0">
            <a:noFill/>
          </a:ln>
        </p:spPr>
      </p:pic>
      <p:pic>
        <p:nvPicPr>
          <p:cNvPr id="380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-85680" y="1523880"/>
            <a:ext cx="8705880" cy="29084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o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vise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obor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92160" y="201600"/>
            <a:ext cx="8601120" cy="1225440"/>
          </a:xfrm>
          <a:prstGeom prst="rect">
            <a:avLst/>
          </a:prstGeom>
          <a:ln w="0">
            <a:noFill/>
          </a:ln>
        </p:spPr>
      </p:pic>
      <p:pic>
        <p:nvPicPr>
          <p:cNvPr id="385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Name your advisory group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Mr. Bruce Quall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This advisory program was his idea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391" name="Content Placeholder 3" descr="advisory logo.jpg"/>
          <p:cNvPicPr/>
          <p:nvPr/>
        </p:nvPicPr>
        <p:blipFill>
          <a:blip r:embed="rId2"/>
          <a:stretch/>
        </p:blipFill>
        <p:spPr>
          <a:xfrm>
            <a:off x="6172200" y="4419720"/>
            <a:ext cx="3286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14:16:13Z</dcterms:created>
  <dc:creator>Teacher</dc:creator>
  <dc:description/>
  <dc:language>en-US</dc:language>
  <cp:lastModifiedBy>Teacher</cp:lastModifiedBy>
  <dcterms:modified xsi:type="dcterms:W3CDTF">2010-08-13T02:54:42Z</dcterms:modified>
  <cp:revision>5</cp:revision>
  <dc:subject/>
  <dc:title>Slide 1</dc:title>
</cp:coreProperties>
</file>